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7870-F6DA-4A2E-A26C-61AFDC31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0416-2FCB-4B3C-9630-60FFE406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7B91-AC66-4771-A310-224E3082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444C-A08B-4F7C-A41D-64FB89DC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DD95-E5DF-4FD7-8185-C83075E0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5D34-802F-41C6-954B-07768680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FE25-F788-4EFF-9F0B-45E25C3E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B5D9-1613-4B67-9FBB-EBF23342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4CFE-42C6-4A21-8B2C-B7D8674B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4913-8791-4A4C-B854-ABDB8011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38C5-CF8F-4940-9CA2-67BA68E6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B69F-0528-41E4-A716-959DC073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48F4-94BE-4889-846E-BFFEE43EF2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506520" y="4513320"/>
            <a:ext cx="8704080" cy="193356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1785960" y="600084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Гагарин и С.П. Короле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642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5508720" y="1916280"/>
            <a:ext cx="309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женщина-космонавт  Валентина Тереш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6426000" cy="4280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1428840" y="550080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Ю.Гагарин и В. Терешк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323640" y="428760"/>
            <a:ext cx="835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ая женщина, вышедшая в открытый  косм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ветлана Савиц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06140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343400" cy="5359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4857840" y="642960"/>
            <a:ext cx="3857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АГАРИН, ЮРИЙ АЛЕКСЕЕВИЧ (1934–1968), советский летчик-космонавт, первый человек, совершивший орбитальный космический пол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72000" cy="4647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673440" cy="29336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216400" y="5229360"/>
            <a:ext cx="36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Ю. Гагарин и его роди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395280" y="2858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 марта 1934 г. в селе Клушино ( Смоленская область) родился Ю.А. Гагар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076640" cy="3441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92720" y="2708280"/>
            <a:ext cx="3429000" cy="37846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285840" y="457200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ратовский индустриальный техн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5219640" y="90792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агарин - курсант  Саратовского аэрокл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684360" y="1557360"/>
            <a:ext cx="7858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 апреля 1961 Ю.А.Гагарин на космическом корабле «Восток», созданном в опытно-конструкторском бюро С.П.Королева, стартовал с космодрома Байконур и совершил первый космический полет, облетев земной шар за 108 минут и благополучно вернувшись на Земл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572320" cy="579132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357120" y="2142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о приземления  Ю.А. Гага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4:40:37Z</dcterms:created>
  <dc:creator>HardyWf</dc:creator>
  <dc:description/>
  <dc:language>en-US</dc:language>
  <cp:lastModifiedBy>Name</cp:lastModifiedBy>
  <dcterms:modified xsi:type="dcterms:W3CDTF">2010-09-23T12:06:21Z</dcterms:modified>
  <cp:revision>3</cp:revision>
  <dc:subject/>
  <dc:title>Первые космонав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6000000000001024140</vt:lpwstr>
  </property>
</Properties>
</file>